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3DDDFE0-20A0-4CB9-9D3B-F942AE9C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97B-F1E8-4720-89A9-F53DE3CE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2AC-CA00-4115-8AD0-34DBD55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E76-DAEB-490E-AF53-D6945494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988-B41D-44EF-8DCD-DA2613AC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427-6746-44BA-8CBB-C49A8D53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4DD-C826-4902-B790-6348B6BD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0734-8420-4B04-8BD7-E269DD20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DA28-8FFE-446D-AF83-75C8D23D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2B0D-B356-47AA-8C3A-342E3C87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7E0F-0B64-4C94-B413-FC770C3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B393-5C48-448C-B41C-0D4C42DE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624-B4EF-4DC1-9BE9-B2DAE9A4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66D-4E76-4BF6-92A4-C7918B1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3D8-AB75-448E-AF39-94AFA022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FCE-ED43-41C5-A2E1-10971A3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D8E0-116D-42D9-9D47-4E5A61AA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C354-9EF3-4712-8D04-7CCC7D45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658-5780-4D20-B2D7-666F3FF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743-1440-4FFD-9F7B-A085D193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B6D-76BB-4B46-8E9A-B5DF85B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E12-3D4A-454A-A1C2-88E4015E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DDE-E915-42D8-80E6-731EF03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B0C-21E5-484C-BE54-C7B3DB8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918-2C97-4C5A-B363-76629F1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785C-5604-4F80-8321-2179C8C5110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13B-3CAA-45BB-B6E8-A0BBB5CDB979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638-D741-4D19-832B-9FCE5FA9312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Facilitator nam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dditional questions might you 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: Session 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all files from CAMPPP!</a:t>
            </a:r>
            <a:br>
              <a:rPr sz="2400"/>
            </a:br>
            <a:br>
              <a:rPr sz="12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63640" y="2600280"/>
            <a:ext cx="594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Donna</cp:lastModifiedBy>
  <dcterms:modified xsi:type="dcterms:W3CDTF">2009-08-21T04:13:09Z</dcterms:modified>
  <cp:revision>124</cp:revision>
  <dc:subject/>
  <dc:title>Math GAINS 2008-09</dc:title>
</cp:coreProperties>
</file>